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2FFC-9864-4800-B434-02FE8334B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C148-352E-46E6-BE1F-108DDE3D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60CD-6BCF-439A-8BDD-FAFD66470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F96-7ED3-4FF3-B6F3-7C6EFF5CB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B3DC3-8F9D-406B-A43B-C82F35EC2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4A621-942A-44EE-9454-B55E8E51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AC332-74CF-435C-B208-B58E7372E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57F22-DAFD-42FD-BFC7-7856C72E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C3E6C-A916-49F7-BA5D-86754D1A7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2E290-3128-43F8-9C5E-84FE609A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4C37-2586-40D3-B13E-5B807F0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3447-5046-402B-AAC1-BB1E61965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8709-3534-4E32-B34E-8BE233B7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C7EB-5CC2-4F32-908F-96C1D720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2272-4282-4C4F-8D96-F1206E6D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3F2E-6186-464C-8F40-01D3604E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21361-9D48-44F5-8B66-7E5DC0AD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9F87-238D-4225-B327-096154EB7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BC2E-DFA8-42F5-A157-4479E8B5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87E-A8E6-4B87-9CD5-95B74AA6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65A-4FE2-49AF-AF6C-9D85DA40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86F5-8B05-476E-AF97-C729AA91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7D50-0B2A-4A4C-84FB-01C53200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B18C-AC7B-4B98-B44C-C019996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0D9CF-75D2-482A-835C-FC6B7B328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ff5050"/>
                </a:gs>
                <a:gs pos="100000">
                  <a:srgbClr val="75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B44C-B85B-430A-97D2-4F10AC80F1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66840" y="456840"/>
            <a:ext cx="629136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13400" y="6210360"/>
            <a:ext cx="423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cc0000"/>
                </a:solidFill>
                <a:latin typeface="Times New Roman"/>
              </a:rPr>
              <a:t>Département des Finances &amp; de l’Économ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762120"/>
            <a:ext cx="7696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sz="5400" spc="-1" strike="noStrike">
                <a:solidFill>
                  <a:srgbClr val="cc0000"/>
                </a:solidFill>
                <a:latin typeface="Times New Roman"/>
              </a:rPr>
              <a:t>European Banking Feder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0292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cc0000"/>
                </a:solidFill>
                <a:latin typeface="Times New Roman"/>
              </a:rPr>
              <a:t>Monaco, June 200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rance   : 28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Monaco : 22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taly       : 19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K        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lgium : 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760" y="1828800"/>
            <a:ext cx="5374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reak down by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ationality 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243828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2209680"/>
            <a:ext cx="7086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D – Focus 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sz="4400" spc="-1" strike="noStrike">
                <a:solidFill>
                  <a:srgbClr val="cc0000"/>
                </a:solidFill>
                <a:latin typeface="Arial"/>
              </a:rPr>
              <a:t>Banking activities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D – Banking activitie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42 credit institutions :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l subsidiaries or branches from European gro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UM  : 75 billion 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1599840"/>
            <a:ext cx="7924680" cy="215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1. A close and long standing relationship with Franc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3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1.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Monaco and France :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 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A monetary union </a:t>
            </a:r>
            <a:br>
              <a:rPr sz="36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well before the euro zone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2 Implementation of the French banking regulation : CCLRF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1.3 licensing by French Committee 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CECE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1.4 Supervision by the French authorities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sz="3600" spc="-1" strike="noStrike">
                <a:solidFill>
                  <a:srgbClr val="cc0000"/>
                </a:solidFill>
                <a:latin typeface="Arial"/>
              </a:rPr>
              <a:t>Commission Banca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2. Monaco – part of the Euro zon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1828800"/>
            <a:ext cx="74674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 Econom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II Banking  sector regulation </a:t>
            </a:r>
            <a:br>
              <a:rPr sz="4000"/>
            </a:br>
            <a:r>
              <a:rPr b="0" lang="en-GB" sz="3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440" y="289548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1 Monaco joined the Euro zon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on 1.1.2002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2514600"/>
            <a:ext cx="79246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2.2 Monaco has recently joined SEPA   :    March 2009</a:t>
            </a:r>
            <a:br>
              <a:rPr sz="48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3141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 – Monaco GDP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A – GDP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1700280"/>
            <a:ext cx="698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1600200"/>
            <a:ext cx="7848720" cy="40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GDP 2007: 4,3 billion €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round 15 % growth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DP  per capita : 60 K</a:t>
            </a:r>
            <a:r>
              <a:rPr b="0" lang="fr-FR" sz="3600" spc="-1" strike="noStrike">
                <a:solidFill>
                  <a:srgbClr val="000000"/>
                </a:solidFill>
                <a:latin typeface="Times New Roman"/>
              </a:rPr>
              <a:t>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1904760"/>
            <a:ext cx="77709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ectors :  </a:t>
            </a:r>
            <a:br>
              <a:rPr sz="3600"/>
            </a:b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rade   : 16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Banking and finance : 15 % 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Support activities: 15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Real Estate : 10 %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ourism  : 10 %</a:t>
            </a:r>
            <a:br>
              <a:rPr sz="3600"/>
            </a:b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838080"/>
            <a:ext cx="472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 – GD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B – Monaco Budget </a:t>
            </a:r>
            <a:br>
              <a:rPr sz="4000"/>
            </a:b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0000"/>
                </a:solidFill>
                <a:latin typeface="Arial"/>
              </a:rPr>
              <a:t>B - Budget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2209320"/>
            <a:ext cx="8077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Budget : 900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ome    :  75% of tax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enses : very strong social syste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0 M€ in public 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ublic deb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-4798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 2008  :  + 4 M€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9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62120" y="304812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 – Monaco popul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C – Population 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35 000 resi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(Working population : 45.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505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reak down by continent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urope : 92 %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buClr>
                <a:srgbClr val="ff505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ther continents : 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3:16:25Z</dcterms:created>
  <dc:creator> </dc:creator>
  <dc:description/>
  <dc:language>en-US</dc:language>
  <cp:lastModifiedBy>Service Informatique</cp:lastModifiedBy>
  <dcterms:modified xsi:type="dcterms:W3CDTF">2009-06-18T06:45:30Z</dcterms:modified>
  <cp:revision>118</cp:revision>
  <dc:subject/>
  <dc:title>Conférence des Ambassadeurs</dc:title>
</cp:coreProperties>
</file>